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0F3-974B-42E8-8A78-4A6800FA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BDE-645C-4B20-8800-B258E852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28A3D-1AE7-4DF4-8E14-E3AA39DF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0E928-8E08-4FAB-83A2-B5157E68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35C49-4B6D-425C-B290-7F37CC31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8962A-098F-4033-AD6F-03906CC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E9579-C097-4943-B7C7-31DC606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B2674-E437-40AF-B1B0-E18DF6EA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4E9F1-48B2-4ED3-B28E-A175A5E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C1D61-6685-4850-8D3F-F8994731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1930F-5FA7-4113-B04E-6FCA9136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FF114-7CFE-4B8B-9DA3-21D5A8CF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7A0-66C7-40CA-803D-7DEB0D47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6890D-DB74-4003-B1C9-44D61413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0188E-6884-4FB5-9AFE-F003EE34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11BDB-9311-4569-A12D-41E2EC8D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7BDF6-5FA9-47D4-9A39-6ACAB208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46915-2205-41DB-9A87-6929E421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962DA-AA4F-4346-92AE-ADB30FD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B05C9-80F6-4951-B2D8-3162CFB5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23513-03AD-4427-B542-41CCB79B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D381B-2830-454C-B7DB-7A93B15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998AD-3836-48D2-8F0B-E331BE8F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D51-101E-4D83-90CB-3B28533C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DD50C-46E2-4196-8636-5599619C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7D066-79BB-4FE1-9D41-297D632D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EDA47-4F5A-4A23-A7A7-0E1C68F9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E1BD3-4ED1-4BFF-B2D6-69ACF8A5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29882-9789-4C14-983D-9190615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AAD24-5F56-4E59-A5D7-402119F5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394CE-DA61-49A2-9A5E-7159F3AC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29BA4-1D85-41A7-9582-1432832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C01A-9D45-461D-9B79-E10B4B4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F598E-4B77-422A-A2D8-014C3EBB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0572-4A1E-4154-AD5A-755ABED3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4A58A-213F-4BAD-B017-CE9F6E29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2EA07-9720-4EFB-B646-B5153B59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FF95E-7D15-445C-BA1B-76328A84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C2419-005F-46FF-AD8E-9D78957A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707E7-C652-4B30-B618-4444C6D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4931-917A-44FE-ACF2-B10C0474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56FA2-6195-4C0E-BF73-A12B5117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D46B8-0422-4CDB-B84A-C75A2069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415FC-230C-4819-98DD-C6D27276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63DA5-B4FE-4A77-A1AC-E72846E6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6C35-BFBE-475C-8C41-A3F9BD96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763A6-66ED-4E5A-BA26-C5A36E6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6E6BC-54DC-40CB-941D-7BA2D9C8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7ADB4-56F3-4219-9BBD-3FF6E5A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20331-162C-4A30-A143-B8D7A208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DE75A-3CA8-464A-B22A-FDDEBA7C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B7965-AB4C-4C73-AE66-CCD7639B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CCEE9-3E27-4BB6-9BB4-00E7DBE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3FA53-CAFE-488F-9CF0-C37E5C97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89241-196D-4B51-8F24-AB016871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6825D-9885-41F9-AC15-CF955CDA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38AB-9040-420E-B154-90C69AA5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861EE-E5FD-47C4-B6B3-AC28D6C8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98C8F-2806-466F-8DAC-B4D68EF5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969C4-7D12-4C9E-9DE5-A357ACDC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454ED-9797-4D63-A5C7-C244E9E6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EB897-FD38-498F-85C0-6AB3F3B9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85112-0BC9-49C9-A04A-0D91702D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B7619-0645-4BDE-B802-D1F9AFFB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3F699-99D1-4652-AFE3-4CEBAA38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35961-2A55-43DC-A6DD-415A2F83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4EAE9-81BC-4A6E-91D2-0D627FAE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9EDE-5F45-41AE-8FD6-271AC035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5C95A-9C19-4119-893A-515B04D3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2F90B-3693-455F-A9F1-D384F4B4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248AD-88C0-4604-AF10-F9BDBD8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BDFA3-77D6-4E06-BB66-A17BEB9A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4B2E7-A7C0-4E71-BEF7-3472789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5583E-BA48-45AD-8F5A-175154AA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4EBCC-7BCC-498C-A51F-E6617B6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2B174-5B77-41BF-9635-799C837C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E17FE-B1D7-46F2-9799-78D70CE9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83080-A194-405F-8875-DC78C7F3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5B71-B657-42BB-9B1F-F6B18D47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43413-3C0E-4006-B57C-4CC03681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BE465-3F00-43B6-BD31-7B1F7E6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F2170-4542-46F8-A6B9-EAF82D3E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253BDE-4A1C-466A-90C6-D2428A66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00A9A-FB10-46F2-811D-631F37C0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716E5-93BD-4BC6-A660-2F9BFE1E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3F40E-072A-4CBC-A45C-914F7240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6E2E7-1B8D-4FDC-8508-78F7E035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A5059-A5AB-423C-991B-7915A0FB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5A8BF-077A-4829-96D2-31E04E99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C47D-BB9E-4B84-B762-347D29FF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C9958-CD49-4735-BEA1-C47EBDF2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205164-7DD4-40C7-AEA2-C17D71C5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2FA17-3489-49C8-AE7B-00FDBCDD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B7A25-353D-4E17-BDAD-4E32AC89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369CF-7C74-4558-AAB8-B87CE020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BD756-A290-4B44-A944-60EDB8ED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745A3-7F90-4B2C-A2E0-ABAAC3E0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0D567-F46B-484D-8DB5-1B75E2F2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E113A-CD13-41DC-90FB-8FFDA135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5DCED-7131-4397-B25C-E1476BAB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DD2F-82F7-412B-BC0B-D0596FAD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74254-1716-478F-ACD4-EA726E9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D6546-0FD9-48E2-B46A-3FBB3436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67EC34-5EAF-4439-83D5-A47BF90E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4C9A5-8D3B-4F09-9FF6-642BD2FD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75491-230F-49F1-A9F4-58C371E5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D2E91-5F13-454F-93C9-49389786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95017-BBFB-43FF-92F0-E328A6D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B556E-E68F-41DF-950B-3455B5D2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B7374-8AEA-49D5-B675-9FF7E1B6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086894-4CDB-409C-9284-4D90941C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7F2-3073-4961-93B7-22842C5D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7B52-1E40-4B04-A975-5297CA8F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8855B-2F30-432C-A5D9-0DBC961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1872B-77C4-432D-8F52-2CA218B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B1CA6-1729-40FC-8770-C0ECB792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C37FC-5432-4EFF-9FA2-B7DBEBFE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069AF-81FA-488C-9D8F-A727A708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1DC1C-6E4D-4BE9-854F-E2BBC218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F7A29-F375-4592-863F-4A8DFEE3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D0AAD-3DAE-48F1-B57F-728B4EF8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85E45-6253-4420-899B-1AF2626D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0CC50-5103-4574-9749-E993EB62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900A-16FD-4A96-8683-AB62EFD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58D93-4E7E-4FB1-A3EE-7122BD52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E7901-8F9C-4057-B8AF-4A83FDB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85283-548D-49CF-80FB-65697B0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82955-2AB8-4487-800C-4B99DBE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3645A-E628-4FC8-B1D1-9C49027A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17D70-A8C9-49CA-815A-1183326E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1E9AD-96D4-48E2-ABC4-93DE2BEA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8152A7-32E9-4051-A1F4-426859DB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488DC-6B3D-46C0-AC5B-2C0C9A4D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F50F7-31B8-4ADD-98BE-22595E3D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65B-7852-4F56-A99C-4BDE697F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19807-7E8E-469A-B5B8-DE7FBC78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900D1-3E97-4DF2-831C-DA6BD957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7F60C-3B2D-4B73-AC55-655EB145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FFDBF-9CDA-4F4A-8275-713EC9A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D5D00E-F2E5-47AE-881D-A213DD88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BF43E-C0EE-4AF0-AC1F-EF4F8DE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AD215A-C412-4806-817A-5257974B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D56CC3-6395-4B60-BBB5-E00DF9D2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AC13D-61C1-47C9-9411-4E77ABC6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3F989-8BFE-457A-81F5-53DE2076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6E31-58FE-437E-8FAB-0B2D085D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18E73-17DC-4B17-8115-3E2EA501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691011-4C89-43A0-9FEA-DD5E5DB4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318E4-A784-4498-97B1-8FB79A75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DA00C-4FF1-46F1-BBD9-3B41C32E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CE894-A11B-44BA-ABDF-BC74D399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53A38-7526-4AEE-B6B5-0A2AB99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AB19F-8BC4-4622-A4D0-3E4294F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96FAD-1CCE-4C16-9CFA-04D4E37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1E23CB-139B-4236-A642-BA0DB1F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B199E-DF82-4481-AC88-B3A3E60B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42B2-9B0C-425F-A5E1-DA9947BB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350AB-7FF9-4463-80F4-5C633C98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C7593E-1743-423C-A629-F458B4D7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414621-A675-411D-A02D-1FD0DBC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CAF5AB-47FF-4CCC-A3E3-B87B6B68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501D02-77D4-4772-B0D3-3CB46D0C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9F840-4399-4E0F-A60A-C1F93CA5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9539D-A21B-4ACA-A262-092DE4C5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375B30-C031-4BF8-85F5-E6C9EEC4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C5D92-A0FA-4D8D-8960-7A9B1CCB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AA6448-3B56-46E0-A75C-CB9F565C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4B2C-D029-4DC5-8542-206DFFE2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B86B9-12FB-40B6-A8D9-BA357C1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3D0A5-3BA8-48B3-BBA7-63701C8B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EB51B-3F8E-4F13-9FB0-6544F0DF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5B8AA4-3430-428E-80CB-386C0F61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1F5821-6458-4255-B572-E3D404F9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EAB9DF-4000-4179-BEE6-D8DFFB4B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C35AC5-EE4D-4451-9A89-AB110CE3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F6C3C4-5B55-42C6-B6AE-4F8B53FA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F7D0A-03F7-4D18-9E52-C2A49E1B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FCF678-9D17-4AE8-9A9A-1854EE0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662B-81B7-42F6-8635-4084391B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5EDCD-C79E-423B-8B0F-AB2D9DF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A9735C-78D6-4930-9A8B-4703914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DCAC50-08BA-4B39-A90C-55530B5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0239E-2249-4302-AE44-AA838217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7F49C3-8945-4C04-8168-B513146E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065988-D6F0-45B1-A77F-2AA7422B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22F0E-F9BE-4F2D-A164-8C0ACC9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B5F83-85A5-433E-AB14-4F913003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A7D541-B325-4396-BEFF-7A2D1C86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CD74C0-1889-4DC5-8351-FBBC3095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BED2-2303-4CEE-B49E-3B0ECCE8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0B35D3-1E38-4CFD-BB24-42A0E9F3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45884D-7EC7-477A-8712-4818F96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976649-75D0-4C0E-832F-0169BFE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D1B8F2-123D-404C-99A8-E3C4875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7E1277-D418-4C45-90F9-55948A5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249051-DBFD-4183-A353-BBE9A934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E0FAA0-DC3B-4897-A95E-B76F921D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1B1D-26FF-4505-A63E-3312907C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3E96-5870-40D8-B8B9-D73E096C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E3C-5B3B-4352-8461-F2F14B2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4019-04F5-419E-8C42-19F2260C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F3A3-1EA8-4EA0-A76B-5C1052CC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9092-B20E-4F8A-AD11-2CB5D19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F115-DFDC-4B63-9608-47CAA352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E878-10D4-4074-80A8-1408294B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A9A7-E637-494F-AC6E-09FF5D12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B825-11FD-48E3-ABF9-60700848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59D8-5767-4196-8499-D11152F4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8E10-93F4-4B05-8EE0-6D114757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F50D-AA10-47D8-B84A-DE8836D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243-EB92-4221-BA2B-8322A9AC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FDED-7018-450F-8598-3DB26182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A735-F6EC-47D5-8EC3-801882A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3A537-EBE5-47C1-A59A-913C5F31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893D-327B-4C4A-98F0-DB79C715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DBB4-2FD0-49CB-9EDE-A90C144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6A7F-F213-4BCB-8022-A18AF99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2F96-8255-4202-85BA-4B8C6894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42B2-82B3-44F2-A4E9-495428C0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69BD2-C8F2-47D7-A277-387D0519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1597E-6AC3-4616-9344-0C3C8ACD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C2C-7171-4E63-88AA-1D49B2B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7F61-F71F-43EB-8D45-E6C674F3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412D5-BFE8-43EB-A1F4-8C36AF55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EEEDD-0E6C-4B27-90C6-647E0952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4010-D164-4515-9AE2-CFC7336B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695B-5FB6-40E7-988F-4AF84971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B070-ECFE-4828-8B0A-B92865C6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1D74-4FA1-4086-8EA4-DC52CF9B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5446C-2163-4621-B215-964EBF71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0F2D-BCDE-4BF1-B2D6-D2D7623D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FB2C-A14F-4407-8C0D-86CE3E2F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53E-4F49-48D6-B159-135F0E40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8AC94-3E5C-4C7A-B5DF-76D2FBA8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F558-57CA-4394-A7FC-EA98B53D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98DB-D9F4-4A84-B24A-86B80D39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6DFCD-7C62-4E0F-957D-5BFBC003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62A5D-4AE2-4E18-9C07-C11329A0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0FD2D-549E-49F9-9181-EA97411F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FCDD-10CF-4B11-A616-F7AF6E47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991E5-2B99-4FA5-8B35-57EF314F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D776-53F7-4EB6-82EA-E28F668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AD58-11C0-4D40-88CF-A17B8140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BEA-F03F-44FB-977C-11920E9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3CFAB-46E3-4144-8EED-38806D47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A25A-D783-4C90-943D-A35F90EA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91F48-6495-443F-8CDE-B3706F7A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82B3-EE46-42D4-8828-92100A50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A006F-4EE3-40DC-84C5-E47F7F66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4616-5C99-42F6-82A0-28506253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639FF-6A7E-4D5A-A9E1-270B456B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A4EC1-D259-4D4B-A231-C291456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6C74F-66F2-4A3B-9191-B9429C7D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16BA-092B-4BEE-AECD-30419B67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0BD-AEE0-46BD-8957-B9EB206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E0F8B-6D4C-4AE0-852F-D0630C7D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9D62E-7D59-48CC-B7B8-C501C66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DF65C-C213-4B06-B95F-E0340C4C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40728-81C5-4B13-85D9-BB53CFAD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B51D-7BF1-41DB-8A9F-D3B9678A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52063-FF4B-4A5D-AD75-C39CD727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3F19F-69CE-4168-BBE0-9A23A73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22DAB-C9E0-477F-A254-6F0B476F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C7D93-D63D-46ED-BBF2-6A402DA3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3FAE6-7318-4CFF-8CB2-7A4E9A07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DE5-34D6-41A8-A588-B84B7F3C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A3582-2921-4DD6-AE2D-2BF1B060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AD964-517F-43A2-A925-BACAE79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F437E-7528-4DF1-97B4-008CC419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2CB99-2434-44FC-B610-F46052DF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2C490-6EA7-4698-8499-91A0F66F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D74AC-C3B6-4452-83EC-0DD2133B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61AA-4C40-4F70-B9AC-14812D2B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71B86-B16F-42F4-8824-16F9E138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B3C1-FEAE-4B1B-9C80-47675A42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7BCE0-1A81-496B-9029-99E086C2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4986-00A2-4600-BB52-04B957B6D1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1D1-7538-4DDE-BAFB-7F87C54653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780E-C50D-4011-9BB1-B4AA27FBF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4EF6-288F-47D2-AC0A-046A034408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F35B-1ECC-4DEC-943C-8B29CA9328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264-412D-4429-9CBB-4AA958CE2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27DA-BA2F-4135-A3B4-FAAEBCEE0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4627-3902-4DA9-B821-A5A90B9D6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77CC-0181-4436-AA4E-FF31D8786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44C6-C55F-4419-86E5-2C9AF9674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A7F5-9A2A-4DA9-BC81-7ED44E6EDA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4538-AB16-4CD0-9021-1E694C376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D553-C46C-4B79-8393-B494DBF910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42DF-B3FB-4DBE-A13B-29E6ECE3B1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8281-CB80-4D00-B9B5-4120C4A63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A4D-DBBB-4AE4-8061-97662A85D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48D-8C3C-4260-A063-6316505B3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8AE2-DB57-4F78-B4A4-E3F4E3D91F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68F8-1393-42CF-9B57-76760CD1B4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FA2E-A3E8-4BDF-8E18-4891419C61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C9CE-77E8-4B44-840F-6BFAEFFEC8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804-D4CC-4824-95BF-F16816E12F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E866-7697-470A-9641-947CB4E5E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454F-DD9E-457E-82FC-E99B2FFE6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DE86-4D8B-42FC-B93B-B490F20215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CFFF-51D7-4B4D-9AEE-E009882910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7B35-19CE-4B83-9F8F-3085865E36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17D7-A206-410A-8AFA-AC0CBE730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AC8C-714E-411A-A9AE-64D508EC50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3ABB-35DE-450E-A1FB-59F35752F4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840-02B8-4B48-9CB6-F5A192900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2E48-9DDA-4A01-BE67-38933124B8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B839-06EF-496D-91A1-97CB077C46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079F-B83A-402C-A59D-7BA16E97DB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6D20-384A-4188-A92B-E00A8F3B0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CD25-8F98-4C84-8D02-B84A3E2D9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11AF-88BC-4C88-94DE-0EB36057E8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DD64-5DE0-4C09-AB12-A5C320515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A0D6-D253-4BC3-B230-89F3D886F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D64C-BBE5-4AC6-B138-A2ED9E11B1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7CB-84B2-4AAF-B4D1-F0C49EBCE7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6575-F5F2-4E94-BDFE-40E7DAA32A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60440" y="3124080"/>
            <a:ext cx="82216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252360" y="1386000"/>
            <a:ext cx="8639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1190520" y="1509840"/>
            <a:ext cx="6762960" cy="3838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116000" y="2421000"/>
            <a:ext cx="54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1042920" y="314172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5472360" cy="447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1116000" y="4797360"/>
            <a:ext cx="66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93960" y="879480"/>
            <a:ext cx="5514840" cy="58197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859280" y="5214960"/>
            <a:ext cx="1152720" cy="6476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788000" y="5935680"/>
            <a:ext cx="1152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704880" y="1662120"/>
            <a:ext cx="7734240" cy="35337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4788000" y="384660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5148360" y="453708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728640" y="1305000"/>
            <a:ext cx="7686720" cy="42480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5003640" y="350028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6372360" y="4911840"/>
            <a:ext cx="151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214200" y="833400"/>
            <a:ext cx="8715600" cy="5791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3132000" y="2290680"/>
            <a:ext cx="1584360" cy="663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3132000" y="301140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3132000" y="373212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3132000" y="4437000"/>
            <a:ext cx="1584360" cy="663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3087720" y="5127480"/>
            <a:ext cx="1584360" cy="663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7"/>
          <a:stretch/>
        </p:blipFill>
        <p:spPr>
          <a:xfrm>
            <a:off x="3073320" y="5862600"/>
            <a:ext cx="15843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547640" y="1281240"/>
            <a:ext cx="6048720" cy="4295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5076720" y="126684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076720" y="273852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5148360" y="347184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5148360" y="414972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5076720" y="4869000"/>
            <a:ext cx="187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43000" y="1438200"/>
            <a:ext cx="8658000" cy="3981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3132000" y="481176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7308720" y="4811760"/>
            <a:ext cx="12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438120" y="746280"/>
            <a:ext cx="8267760" cy="5981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374840" y="1743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2065320" y="1728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275760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56674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635796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7050240" y="178920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8"/>
          <a:stretch/>
        </p:blipFill>
        <p:spPr>
          <a:xfrm>
            <a:off x="7740720" y="1758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9"/>
          <a:stretch/>
        </p:blipFill>
        <p:spPr>
          <a:xfrm>
            <a:off x="1389240" y="43927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0"/>
          <a:stretch/>
        </p:blipFill>
        <p:spPr>
          <a:xfrm>
            <a:off x="2079720" y="4378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1"/>
          <a:stretch/>
        </p:blipFill>
        <p:spPr>
          <a:xfrm>
            <a:off x="2771640" y="4408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2"/>
          <a:stretch/>
        </p:blipFill>
        <p:spPr>
          <a:xfrm>
            <a:off x="2843280" y="26654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3"/>
          <a:stretch/>
        </p:blipFill>
        <p:spPr>
          <a:xfrm>
            <a:off x="5667480" y="4379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4"/>
          <a:stretch/>
        </p:blipFill>
        <p:spPr>
          <a:xfrm>
            <a:off x="635796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5"/>
          <a:stretch/>
        </p:blipFill>
        <p:spPr>
          <a:xfrm>
            <a:off x="7050240" y="43959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16"/>
          <a:stretch/>
        </p:blipFill>
        <p:spPr>
          <a:xfrm>
            <a:off x="774072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7"/>
          <a:stretch/>
        </p:blipFill>
        <p:spPr>
          <a:xfrm>
            <a:off x="6948360" y="267984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8"/>
          <a:stretch/>
        </p:blipFill>
        <p:spPr>
          <a:xfrm>
            <a:off x="2843280" y="530064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9"/>
          <a:stretch/>
        </p:blipFill>
        <p:spPr>
          <a:xfrm>
            <a:off x="2771640" y="607860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0"/>
          <a:stretch/>
        </p:blipFill>
        <p:spPr>
          <a:xfrm>
            <a:off x="7005600" y="527220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1"/>
          <a:stretch/>
        </p:blipFill>
        <p:spPr>
          <a:xfrm>
            <a:off x="6934320" y="604980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42920" y="1752480"/>
            <a:ext cx="8858160" cy="3353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4067280" y="364500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4859280" y="4437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6805440" y="4437000"/>
            <a:ext cx="151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5:0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